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ADEB-040A-4124-902A-05B605220F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08B4-749E-4B77-A2A4-822DEA2823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6B5-A810-4A72-A4DF-843463FE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772-FD18-49C1-859E-A3F0DE43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94B-2AA6-44B5-9BB6-68AF90FF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667-BB7C-44A4-8D94-477BAC7F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A27E-21DA-4553-8E9F-D79DC4C0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FB2B-7DD2-491C-88CD-AB8EEDDD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2492-A33A-48BF-B742-AB5ED99C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F942-5D06-4EF0-BF7D-5EA2CE3B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4261-E5D3-4FA4-9981-AF832066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0840-F0A8-4CED-8114-1CE8F742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5F86-CC86-4D61-BE8C-456342DD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F01-0F0A-46AD-8D62-1139A39F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2140-A883-4A61-B924-2053E07D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424D-A87E-40DE-9D20-03DE44FF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5ECB-7093-448E-8097-98CEAB9C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97F2-9C39-424B-B112-8635C37C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9283-D290-41A7-A4D8-0C851583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938-DE86-4C18-A173-277902EE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FE6-09BE-4465-8E78-46CE1E25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173-DE7D-45C0-8F19-3D529294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9E8-7245-4732-AD17-145C12E9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8BE-EF10-4851-A203-540A9394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CFA-6C79-4DAA-9CAC-E1901410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E15-F9C5-466F-B915-B13010E4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2373-762B-4808-A7F9-CDFC4DA719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B97E-2190-42DD-A803-B72B93542D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上二年级了你们还会天天粘着爸爸妈妈。到处找妈妈吗？今天啊，有个小朋友到处找妈妈呢？它就是？说说你是怎么认识它的？小蝌蚪长什么样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在课文中找到答案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5640" y="1412640"/>
            <a:ext cx="303516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矩形 6" descr=""/>
          <p:cNvPicPr/>
          <p:nvPr/>
        </p:nvPicPr>
        <p:blipFill>
          <a:blip r:embed="rId2"/>
          <a:stretch/>
        </p:blipFill>
        <p:spPr>
          <a:xfrm>
            <a:off x="4248000" y="1023840"/>
            <a:ext cx="2281320" cy="2871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今天小蝌蚪来棠外可不是上学的，它是来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1412640"/>
            <a:ext cx="303552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小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内容占位符 4"/>
          <p:cNvSpPr/>
          <p:nvPr/>
        </p:nvSpPr>
        <p:spPr>
          <a:xfrm>
            <a:off x="4211640" y="1413000"/>
            <a:ext cx="30351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找妈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字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合作相互认字，做得好的给他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角星 3"/>
          <p:cNvSpPr/>
          <p:nvPr/>
        </p:nvSpPr>
        <p:spPr>
          <a:xfrm>
            <a:off x="7667640" y="1628640"/>
            <a:ext cx="433440" cy="576360"/>
          </a:xfrm>
          <a:custGeom>
            <a:avLst/>
            <a:gdLst>
              <a:gd name="textAreaLeft" fmla="*/ 133920 w 433440"/>
              <a:gd name="textAreaRight" fmla="*/ 299520 w 43344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432048" h="576064">
                <a:moveTo>
                  <a:pt x="0" y="220036"/>
                </a:moveTo>
                <a:lnTo>
                  <a:pt x="165029" y="220038"/>
                </a:lnTo>
                <a:lnTo>
                  <a:pt x="216024" y="0"/>
                </a:lnTo>
                <a:lnTo>
                  <a:pt x="267019" y="220038"/>
                </a:lnTo>
                <a:lnTo>
                  <a:pt x="432048" y="220036"/>
                </a:lnTo>
                <a:lnTo>
                  <a:pt x="298536" y="356025"/>
                </a:lnTo>
                <a:lnTo>
                  <a:pt x="349534" y="576062"/>
                </a:lnTo>
                <a:lnTo>
                  <a:pt x="216024" y="440071"/>
                </a:lnTo>
                <a:lnTo>
                  <a:pt x="82514" y="576062"/>
                </a:lnTo>
                <a:lnTo>
                  <a:pt x="133512" y="35602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内容占位符 2"/>
          <p:cNvSpPr/>
          <p:nvPr/>
        </p:nvSpPr>
        <p:spPr>
          <a:xfrm>
            <a:off x="468360" y="227664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椭圆 7"/>
          <p:cNvSpPr/>
          <p:nvPr/>
        </p:nvSpPr>
        <p:spPr>
          <a:xfrm>
            <a:off x="4859280" y="2637000"/>
            <a:ext cx="720720" cy="201600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"/>
          <p:cNvSpPr/>
          <p:nvPr/>
        </p:nvSpPr>
        <p:spPr>
          <a:xfrm>
            <a:off x="115920" y="412920"/>
            <a:ext cx="531000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青蛙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"/>
          <p:cNvSpPr/>
          <p:nvPr/>
        </p:nvSpPr>
        <p:spPr>
          <a:xfrm>
            <a:off x="4859280" y="1436760"/>
            <a:ext cx="417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四条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宽嘴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披着碧绿的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露着雪白的肚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鼓着一对大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pic_252916"/>
          <p:cNvPicPr/>
          <p:nvPr/>
        </p:nvPicPr>
        <p:blipFill>
          <a:blip r:embed="rId1"/>
          <a:stretch/>
        </p:blipFill>
        <p:spPr>
          <a:xfrm>
            <a:off x="358920" y="1268280"/>
            <a:ext cx="4348080" cy="5218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3"/>
          <p:cNvSpPr/>
          <p:nvPr/>
        </p:nvSpPr>
        <p:spPr>
          <a:xfrm>
            <a:off x="357120" y="442800"/>
            <a:ext cx="19544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"/>
          <p:cNvSpPr/>
          <p:nvPr/>
        </p:nvSpPr>
        <p:spPr>
          <a:xfrm>
            <a:off x="588960" y="209376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3"/>
          <p:cNvSpPr/>
          <p:nvPr/>
        </p:nvSpPr>
        <p:spPr>
          <a:xfrm>
            <a:off x="888840" y="52056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544680" y="185724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3"/>
          <p:cNvSpPr/>
          <p:nvPr/>
        </p:nvSpPr>
        <p:spPr>
          <a:xfrm>
            <a:off x="561960" y="19368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613400" y="1095480"/>
            <a:ext cx="446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们看见鲤鱼妈妈在教小鲤鱼捕食，就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上去，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鲤鱼阿姨，我们的妈妈在哪里？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鲤鱼妈妈说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的妈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条腿，宽嘴巴。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到那边去找吧！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pic_252914"/>
          <p:cNvPicPr/>
          <p:nvPr/>
        </p:nvPicPr>
        <p:blipFill>
          <a:blip r:embed="rId1"/>
          <a:stretch/>
        </p:blipFill>
        <p:spPr>
          <a:xfrm>
            <a:off x="216000" y="952560"/>
            <a:ext cx="4255920" cy="5632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3"/>
          <p:cNvSpPr/>
          <p:nvPr/>
        </p:nvSpPr>
        <p:spPr>
          <a:xfrm>
            <a:off x="542880" y="36684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279360" y="1143000"/>
            <a:ext cx="85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5" descr="QQ截图20170807221119"/>
          <p:cNvPicPr/>
          <p:nvPr/>
        </p:nvPicPr>
        <p:blipFill>
          <a:blip r:embed="rId1"/>
          <a:stretch/>
        </p:blipFill>
        <p:spPr>
          <a:xfrm>
            <a:off x="1460520" y="2343240"/>
            <a:ext cx="6461280" cy="30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pic_252913"/>
          <p:cNvPicPr/>
          <p:nvPr/>
        </p:nvPicPr>
        <p:blipFill>
          <a:blip r:embed="rId1"/>
          <a:stretch/>
        </p:blipFill>
        <p:spPr>
          <a:xfrm>
            <a:off x="12600" y="215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pic_252914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1841400" y="3624120"/>
            <a:ext cx="1789200" cy="1751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ic_25291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594240" y="2436840"/>
            <a:ext cx="181584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_252916"/>
          <p:cNvPicPr/>
          <p:nvPr/>
        </p:nvPicPr>
        <p:blipFill>
          <a:blip r:embed="rId4"/>
          <a:stretch/>
        </p:blipFill>
        <p:spPr>
          <a:xfrm>
            <a:off x="5410080" y="36576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ic_252918"/>
          <p:cNvPicPr/>
          <p:nvPr/>
        </p:nvPicPr>
        <p:blipFill>
          <a:blip r:embed="rId5"/>
          <a:stretch/>
        </p:blipFill>
        <p:spPr>
          <a:xfrm>
            <a:off x="7238880" y="281952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3"/>
          <p:cNvSpPr/>
          <p:nvPr/>
        </p:nvSpPr>
        <p:spPr>
          <a:xfrm>
            <a:off x="209520" y="13320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"/>
          <p:cNvSpPr/>
          <p:nvPr/>
        </p:nvSpPr>
        <p:spPr>
          <a:xfrm>
            <a:off x="209520" y="861840"/>
            <a:ext cx="858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4719600" y="56386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备注：与上一页一样，但是图片我改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选择一些留哪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六角星 4"/>
          <p:cNvSpPr/>
          <p:nvPr/>
        </p:nvSpPr>
        <p:spPr>
          <a:xfrm>
            <a:off x="1305000" y="5375160"/>
            <a:ext cx="1079280" cy="1086120"/>
          </a:xfrm>
          <a:custGeom>
            <a:avLst/>
            <a:gdLst>
              <a:gd name="textAreaLeft" fmla="*/ 179640 w 1079280"/>
              <a:gd name="textAreaRight" fmla="*/ 899640 w 1079280"/>
              <a:gd name="textAreaTop" fmla="*/ 271440 h 1086120"/>
              <a:gd name="textAreaBottom" fmla="*/ 814680 h 1086120"/>
            </a:gdLst>
            <a:ahLst/>
            <a:rect l="textAreaLeft" t="textAreaTop" r="textAreaRight" b="textAreaBottom"/>
            <a:pathLst>
              <a:path w="1079500" h="1085850">
                <a:moveTo>
                  <a:pt x="0" y="271463"/>
                </a:moveTo>
                <a:lnTo>
                  <a:pt x="359830" y="271458"/>
                </a:lnTo>
                <a:lnTo>
                  <a:pt x="539750" y="0"/>
                </a:lnTo>
                <a:lnTo>
                  <a:pt x="719670" y="271458"/>
                </a:lnTo>
                <a:lnTo>
                  <a:pt x="1079500" y="271463"/>
                </a:lnTo>
                <a:lnTo>
                  <a:pt x="899589" y="542925"/>
                </a:lnTo>
                <a:lnTo>
                  <a:pt x="1079500" y="814388"/>
                </a:lnTo>
                <a:lnTo>
                  <a:pt x="719670" y="814392"/>
                </a:lnTo>
                <a:lnTo>
                  <a:pt x="539750" y="1085850"/>
                </a:lnTo>
                <a:lnTo>
                  <a:pt x="359830" y="814392"/>
                </a:lnTo>
                <a:lnTo>
                  <a:pt x="0" y="814388"/>
                </a:lnTo>
                <a:lnTo>
                  <a:pt x="179911" y="542925"/>
                </a:lnTo>
                <a:close/>
              </a:path>
            </a:pathLst>
          </a:cu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3"/>
          <p:cNvSpPr/>
          <p:nvPr/>
        </p:nvSpPr>
        <p:spPr>
          <a:xfrm>
            <a:off x="662040" y="487440"/>
            <a:ext cx="17254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"/>
          <p:cNvSpPr/>
          <p:nvPr/>
        </p:nvSpPr>
        <p:spPr>
          <a:xfrm>
            <a:off x="4111560" y="1127160"/>
            <a:ext cx="79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照样子，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5" descr="QQ截图20170807221523"/>
          <p:cNvPicPr/>
          <p:nvPr/>
        </p:nvPicPr>
        <p:blipFill>
          <a:blip r:embed="rId1"/>
          <a:stretch/>
        </p:blipFill>
        <p:spPr>
          <a:xfrm>
            <a:off x="593640" y="1211400"/>
            <a:ext cx="3090960" cy="475128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6"/>
          <p:cNvSpPr/>
          <p:nvPr/>
        </p:nvSpPr>
        <p:spPr>
          <a:xfrm>
            <a:off x="3997440" y="2619360"/>
            <a:ext cx="40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戴着（ 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着（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3"/>
          <p:cNvSpPr/>
          <p:nvPr/>
        </p:nvSpPr>
        <p:spPr>
          <a:xfrm>
            <a:off x="847800" y="279360"/>
            <a:ext cx="16700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5" descr="QQ截图20170807222130"/>
          <p:cNvPicPr/>
          <p:nvPr/>
        </p:nvPicPr>
        <p:blipFill>
          <a:blip r:embed="rId1"/>
          <a:stretch/>
        </p:blipFill>
        <p:spPr>
          <a:xfrm>
            <a:off x="455760" y="3059280"/>
            <a:ext cx="895320" cy="1396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QQ截图20170807222204"/>
          <p:cNvPicPr/>
          <p:nvPr/>
        </p:nvPicPr>
        <p:blipFill>
          <a:blip r:embed="rId2"/>
          <a:stretch/>
        </p:blipFill>
        <p:spPr>
          <a:xfrm>
            <a:off x="7826400" y="3278160"/>
            <a:ext cx="806400" cy="95904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7"/>
          <p:cNvSpPr/>
          <p:nvPr/>
        </p:nvSpPr>
        <p:spPr>
          <a:xfrm>
            <a:off x="-14400" y="1039680"/>
            <a:ext cx="244656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左右结构左窄右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云形标注 8"/>
          <p:cNvSpPr/>
          <p:nvPr/>
        </p:nvSpPr>
        <p:spPr>
          <a:xfrm>
            <a:off x="6576840" y="577800"/>
            <a:ext cx="2621160" cy="2525760"/>
          </a:xfrm>
          <a:prstGeom prst="cloudCallout">
            <a:avLst>
              <a:gd name="adj1" fmla="val -1495"/>
              <a:gd name="adj2" fmla="val 80569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主动避让有礼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巧妙穿插很友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C:\Users\Administrator\AppData\Roaming\Tencent\Users\272041023\QQ\WinTemp\RichOle\P5T5{WE_UXB6XNW5LWZ$D58.png"/>
          <p:cNvPicPr/>
          <p:nvPr/>
        </p:nvPicPr>
        <p:blipFill>
          <a:blip r:embed="rId3"/>
          <a:stretch/>
        </p:blipFill>
        <p:spPr>
          <a:xfrm>
            <a:off x="1965240" y="2565360"/>
            <a:ext cx="5054760" cy="302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速找一找，文中哪里描写小蝌蚪的样子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~~~~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勾一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28677"/>
          <p:cNvSpPr/>
          <p:nvPr/>
        </p:nvSpPr>
        <p:spPr>
          <a:xfrm>
            <a:off x="646200" y="1052640"/>
            <a:ext cx="7996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范建健     开  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椭圆 4"/>
          <p:cNvSpPr/>
          <p:nvPr/>
        </p:nvSpPr>
        <p:spPr>
          <a:xfrm>
            <a:off x="6588000" y="1844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28440" y="247680"/>
            <a:ext cx="57657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5402160" y="1700280"/>
            <a:ext cx="374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5402160" y="270828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黑灰色的身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5402160" y="2997360"/>
            <a:ext cx="374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长长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8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1187280" y="126828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椭圆 4"/>
          <p:cNvSpPr/>
          <p:nvPr/>
        </p:nvSpPr>
        <p:spPr>
          <a:xfrm>
            <a:off x="6084720" y="1052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28440" y="247680"/>
            <a:ext cx="70646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的脑袋怎么样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4932360" y="90792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4932360" y="177336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蝌蚪的脑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5076720" y="256536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大大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4572000" y="3429000"/>
            <a:ext cx="48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4284720" y="4365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4284720" y="5157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的身体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98764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1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395280" y="119700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只有一只小蝌蚪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一群小蝌蚪生活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1197000"/>
            <a:ext cx="4238640" cy="5661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4427640" y="2492280"/>
            <a:ext cx="3673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池</a:t>
            </a:r>
            <a:r>
              <a:rPr b="1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塘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池塘里面有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5"/>
          <p:cNvGrpSpPr/>
          <p:nvPr/>
        </p:nvGrpSpPr>
        <p:grpSpPr>
          <a:xfrm>
            <a:off x="826920" y="2781360"/>
            <a:ext cx="1513080" cy="1368360"/>
            <a:chOff x="826920" y="2781360"/>
            <a:chExt cx="1513080" cy="1368360"/>
          </a:xfrm>
        </p:grpSpPr>
        <p:sp>
          <p:nvSpPr>
            <p:cNvPr id="117" name="椭圆 3"/>
            <p:cNvSpPr/>
            <p:nvPr/>
          </p:nvSpPr>
          <p:spPr>
            <a:xfrm>
              <a:off x="826920" y="2781360"/>
              <a:ext cx="1513080" cy="13683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"/>
            <p:cNvSpPr/>
            <p:nvPr/>
          </p:nvSpPr>
          <p:spPr>
            <a:xfrm>
              <a:off x="1042920" y="2997360"/>
              <a:ext cx="1153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塘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线形标注 1 7"/>
          <p:cNvSpPr/>
          <p:nvPr/>
        </p:nvSpPr>
        <p:spPr>
          <a:xfrm>
            <a:off x="3708360" y="3141720"/>
            <a:ext cx="1871640" cy="934920"/>
          </a:xfrm>
          <a:prstGeom prst="borderCallout1">
            <a:avLst>
              <a:gd name="adj1" fmla="val 18750"/>
              <a:gd name="adj2" fmla="val -8333"/>
              <a:gd name="adj3" fmla="val 40523"/>
              <a:gd name="adj4" fmla="val -83745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线形标注 1 8"/>
          <p:cNvSpPr/>
          <p:nvPr/>
        </p:nvSpPr>
        <p:spPr>
          <a:xfrm>
            <a:off x="6372360" y="2060640"/>
            <a:ext cx="1944720" cy="863640"/>
          </a:xfrm>
          <a:prstGeom prst="borderCallout1">
            <a:avLst>
              <a:gd name="adj1" fmla="val 18750"/>
              <a:gd name="adj2" fmla="val -8333"/>
              <a:gd name="adj3" fmla="val 132921"/>
              <a:gd name="adj4" fmla="val -4328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线形标注 1 9"/>
          <p:cNvSpPr/>
          <p:nvPr/>
        </p:nvSpPr>
        <p:spPr>
          <a:xfrm>
            <a:off x="6372360" y="3068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51236"/>
              <a:gd name="adj4" fmla="val -4988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线形标注 1 10"/>
          <p:cNvSpPr/>
          <p:nvPr/>
        </p:nvSpPr>
        <p:spPr>
          <a:xfrm>
            <a:off x="6443640" y="4292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-28597"/>
              <a:gd name="adj4" fmla="val -4575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6588000" y="3141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6588000" y="4365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那句好？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3573360"/>
            <a:ext cx="822960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内容占位符 2"/>
          <p:cNvSpPr/>
          <p:nvPr/>
        </p:nvSpPr>
        <p:spPr>
          <a:xfrm>
            <a:off x="395280" y="1916280"/>
            <a:ext cx="82296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换个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67280" y="476280"/>
            <a:ext cx="41767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59280" y="1628280"/>
            <a:ext cx="42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28:44Z</dcterms:created>
  <dc:creator>lykj</dc:creator>
  <dc:description/>
  <cp:keywords/>
  <dc:language>en-US</dc:language>
  <cp:lastModifiedBy>ASUS</cp:lastModifiedBy>
  <dcterms:modified xsi:type="dcterms:W3CDTF">2018-09-03T08:10:46Z</dcterms:modified>
  <cp:revision>19</cp:revision>
  <dc:subject/>
  <dc:title>统编教材二年级上册第一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